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9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843-3E30-4F01-8531-901300D6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824-FEDF-462F-902F-C14D9434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7B4-DB1A-43C3-ACA4-AED70F5A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ACA-9C9D-4822-B81D-B5118332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AE2-5E8B-4893-9D25-35B9A26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A54-4F6B-4DF3-B8D7-37A0C004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30F-D325-463B-B7B4-80FC078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BC7-9954-4230-A76B-A8836EA9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4CA-97DC-446D-8913-EF134F7B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C47-715E-43B3-9B36-BB707DC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670-FEAF-47BC-9CCE-DB43B84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888-4423-4987-8D1C-CFC40919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6564-7CFE-4423-BAD1-D631E7DC99D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nanga-parbat-gl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Arial"/>
              </a:rPr>
              <a:t>ОСВОБОЖДЕНИЕТО </a:t>
            </a:r>
            <a:br>
              <a:rPr sz="4400"/>
            </a:br>
            <a:r>
              <a:rPr b="1" lang="bg-BG" sz="4400" spc="-1" strike="noStrike">
                <a:solidFill>
                  <a:srgbClr val="bbe0e3"/>
                </a:solidFill>
                <a:latin typeface="Arial"/>
              </a:rPr>
              <a:t>на Бълг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419360" y="8380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Историческото "Кърваво писмо" не пристига в Батак. По пътя, край Пещера вестоносецът е убит от турска потеря и батачани въстават по-рано. Дните на свободата са малко, но ентусиазмът е неописуем. Самобитната република съществува едва десетина дни. Но тези дни събират надеждите на цял един народ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В/ Потушаване на Априлското въс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редател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Шпион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Несъизмеримост на българската с турската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Arial"/>
              </a:rPr>
              <a:t>Последи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пожарени сел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Избити х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сиротели де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тзвук в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2.Освободителната </a:t>
            </a:r>
            <a:br>
              <a:rPr sz="4400"/>
            </a:b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Руско-турска вой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54100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19920" y="2209680"/>
            <a:ext cx="285732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819160" cy="1992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66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) Отзвук на Априлското въстание в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10080" y="6091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i="1" lang="bg-BG" sz="2400" spc="-1" strike="noStrike">
                <a:solidFill>
                  <a:srgbClr val="000000"/>
                </a:solidFill>
                <a:latin typeface="Monotype Corsiva"/>
              </a:rPr>
              <a:t>"Трябва да се привлече вниманието на европейските правителства върху един дребен факт, тъй дребен, че правителствата съвсем не са го забелязали. А ето този факт: един народ е избиван. Къде? В Европа. Има ли свидетели? Има един свидетел: ЦЕЛИЯТ СВЯТ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2 юли 1876 г.                 Виктор Ю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1774800" cy="1981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4267080" cy="3243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343400"/>
            <a:ext cx="6477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Жестокото потушаване на въстание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отзвука на зверствата в Евро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повод за провеждане на Цариградс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ференция. Решенията от нея са пър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ждународно признание на правото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ългарите да имат своя държав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тническите си гран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) Подготовка на Александър II зa война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380880" y="838080"/>
            <a:ext cx="929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сманското правителство, обаче, отказва да ги осъществи. През април 1877 г. княз Александър Втори обявява вона на Османската импе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095560" cy="29052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В) Българското опъл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83808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формирано в град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чело с генерал Стол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67640" y="685800"/>
            <a:ext cx="21477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9800" y="2286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амарското зн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762120" y="0"/>
            <a:ext cx="3810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намето е ушито от монахините на Самарския девически манастир от тежък копринен плат от три цвята - малинов, бял и светлосин. От двете му страни имало черен кръст, обшит с красиви златни арабески. В средата на кръста от едната страна била изобразена чудотворната Казанска икона на Света Богородица, а от другата страна - светите братя Кирил и Мет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971800" y="1535040"/>
            <a:ext cx="6172200" cy="5322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олучаване Самарското знаме въ Плоещ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 18 май 1877 година в Плоещ делегация от Самара връчва Самарското знаме на Българското опълчение на специална церемония, в която знамето е заковано на дръжката със златни пирони. Последният пирон е закован от старият поборник войводата дядо Цеко Петков, който сваля калпак и с вдигнат към небето поглед възклик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а даде Господ това свято знаме да премине от край до край през многострадалната българска земя. Нека нашите майки, жени и сестри да изтрият с него скръбните си очи, а след него да настане траен мир и благоденствие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Г) Обявяване на войн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прил 1877 г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Важни сра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вищов, юн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Търново, юл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тара Загора, юл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Ловеч,юли 187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левен, ноември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Шипка, август 1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офия, януари 1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ловдив, януари 18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935760" y="0"/>
            <a:ext cx="220824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381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77120" y="4861080"/>
            <a:ext cx="2666880" cy="1996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629400" y="30481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419720" y="3352680"/>
            <a:ext cx="236196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572000" y="494352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038480" y="68580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Файл:Defending the banner at Stara Zagora.jpg"/>
          <p:cNvPicPr/>
          <p:nvPr/>
        </p:nvPicPr>
        <p:blipFill>
          <a:blip r:embed="rId8"/>
          <a:stretch/>
        </p:blipFill>
        <p:spPr>
          <a:xfrm>
            <a:off x="1752480" y="5008680"/>
            <a:ext cx="2838600" cy="184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4267080" y="1600200"/>
            <a:ext cx="4648320" cy="34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" descr=""/>
          <p:cNvPicPr/>
          <p:nvPr/>
        </p:nvPicPr>
        <p:blipFill>
          <a:blip r:embed="rId10"/>
          <a:stretch/>
        </p:blipFill>
        <p:spPr>
          <a:xfrm>
            <a:off x="152280" y="838080"/>
            <a:ext cx="3881520" cy="5181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1. Априлско въст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2. Освободителна Руско-турска 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3. Мирен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3.Мирен 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04920" y="91404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анстефанският договор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 е предварителен мирен договор между Русия и Османската империя, който слага край на войната между тях и урежда, макар и не окончателно, обособяване на Трета                          българска държ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говорът е подписан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3 март 1878 г. в Сан Стефано (близо до Истанбул), от граф Николай Игнатиев и Александър Нелидов от руска страна и от външния министър Савфет Мехмед паша и посланика в Германия Садулах бей от страна на Османската импе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Ignatiev signing treaty.JPG"/>
          <p:cNvPicPr/>
          <p:nvPr/>
        </p:nvPicPr>
        <p:blipFill>
          <a:blip r:embed="rId1"/>
          <a:stretch/>
        </p:blipFill>
        <p:spPr>
          <a:xfrm>
            <a:off x="4724280" y="304920"/>
            <a:ext cx="42292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228600" y="3809880"/>
            <a:ext cx="4267080" cy="2838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bg-BG" sz="2000" spc="-1" strike="noStrike">
                <a:solidFill>
                  <a:srgbClr val="000000"/>
                </a:solidFill>
                <a:latin typeface="Comic Sans MS"/>
              </a:rPr>
              <a:t>България се създава като автономно княжество в пределите, където мнозинството от населението е българско. Тя ще плаща данък, ще има народно християнско правителство и местна милиция.</a:t>
            </a:r>
            <a:r>
              <a:rPr b="1" lang="bg-BG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632448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свободената Българска дър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0" y="633888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осрещане на руските освоб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За България - МИР и синьо небе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Реч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стани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подготвен въоръжен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Апостол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първите ученици и последователи на Иисус Христ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ашибозук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османски военни части, набирани от османското население и известни със своята жесток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ългарско опълчени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– българска войска от доброволци за подпомагане на руската армия. То надхвърлило 10 000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1. Априлското въс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670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А) Разделяне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страната на 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революционни окръга</a:t>
            </a: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9920" y="68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Търнов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ливен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Врачан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Пловдивски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ffff"/>
                </a:solidFill>
                <a:latin typeface="Arial"/>
              </a:rPr>
              <a:t>Софий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Главното знаме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на панагюрските въс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586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32560" y="5911920"/>
            <a:ext cx="45057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аметни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йна Попгеоргиева Фут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Панагюр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0000" y="1219320"/>
            <a:ext cx="4734000" cy="5638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79680" y="228600"/>
            <a:ext cx="334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раморна скулпту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 която се съхраня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ленните й останки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2381400" cy="178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56386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Б) Избухване 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ffffff"/>
                </a:solidFill>
                <a:latin typeface="Arial"/>
              </a:rPr>
              <a:t>въста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52280" y="-304920"/>
            <a:ext cx="4800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) Подкрепа отвъ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581280" y="0"/>
            <a:ext cx="5105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Ботевата чета сли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на български бря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при Козло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03T13:08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